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C21-498D-4E4A-BC91-856A1357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ED15-722C-428D-B2EE-92322DAC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0878-9125-47BC-A9BF-06FC23FD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546-F878-44CD-B5ED-3C848EA2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867A-69CE-4A37-9492-4F557809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53E9-6E4E-466F-8E9B-66636148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696E-4328-4C05-8AA7-FF9525E2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5F8-0E57-4025-96F7-F385081F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CF5C-4E28-45B5-B496-F62004A8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3E62-AD0F-436F-B0D9-4CEF011A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AC1-3E15-45E3-86C6-124E0AA5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B01-453F-42F9-9544-4426A7A4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4192-5198-4BBE-9E0C-548DF387E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4.xml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5.jpeg"/><Relationship Id="rId5" Type="http://schemas.openxmlformats.org/officeDocument/2006/relationships/image" Target="../media/image8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0"/>
          <p:cNvSpPr/>
          <p:nvPr/>
        </p:nvSpPr>
        <p:spPr>
          <a:xfrm>
            <a:off x="684360" y="333360"/>
            <a:ext cx="8064360" cy="79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atura MT Script Capitals"/>
              </a:rPr>
              <a:t>We recyc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11"/>
          <p:cNvSpPr/>
          <p:nvPr/>
        </p:nvSpPr>
        <p:spPr>
          <a:xfrm>
            <a:off x="5003640" y="1125360"/>
            <a:ext cx="3745080" cy="5256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5256360"/>
              <a:gd name="textAreaBottom" fmla="*/ 5073840 h 5256360"/>
            </a:gdLst>
            <a:ahLst/>
            <a:rect l="textAreaLeft" t="textAreaTop" r="textAreaRight" b="textAreaBottom"/>
            <a:pathLst>
              <a:path w="21600" h="30316">
                <a:moveTo>
                  <a:pt x="3600" y="0"/>
                </a:moveTo>
                <a:arcTo wR="3600" hR="3600" stAng="16200000" swAng="-5400000"/>
                <a:lnTo>
                  <a:pt x="0" y="26716"/>
                </a:lnTo>
                <a:arcTo wR="3600" hR="3600" stAng="10800000" swAng="-5400000"/>
                <a:lnTo>
                  <a:pt x="18000" y="3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14 Imagen" descr="paper.gif"/>
          <p:cNvPicPr/>
          <p:nvPr/>
        </p:nvPicPr>
        <p:blipFill>
          <a:blip r:embed="rId1"/>
          <a:stretch/>
        </p:blipFill>
        <p:spPr>
          <a:xfrm>
            <a:off x="0" y="3716280"/>
            <a:ext cx="1535040" cy="1505160"/>
          </a:xfrm>
          <a:prstGeom prst="rect">
            <a:avLst/>
          </a:prstGeom>
          <a:ln w="0">
            <a:noFill/>
          </a:ln>
        </p:spPr>
      </p:pic>
      <p:pic>
        <p:nvPicPr>
          <p:cNvPr id="44" name="15 Imagen" descr="plastic.gif"/>
          <p:cNvPicPr/>
          <p:nvPr/>
        </p:nvPicPr>
        <p:blipFill>
          <a:blip r:embed="rId2"/>
          <a:stretch/>
        </p:blipFill>
        <p:spPr>
          <a:xfrm>
            <a:off x="7020000" y="3284640"/>
            <a:ext cx="1584360" cy="187164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0"/>
          <p:cNvSpPr/>
          <p:nvPr/>
        </p:nvSpPr>
        <p:spPr>
          <a:xfrm>
            <a:off x="179280" y="5157720"/>
            <a:ext cx="8064720" cy="1584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Matura MT Script Capitals"/>
              </a:rPr>
              <a:t>Enjoy Learning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16 Imagen" descr="logo_etwinning.jpg"/>
          <p:cNvPicPr/>
          <p:nvPr/>
        </p:nvPicPr>
        <p:blipFill>
          <a:blip r:embed="rId3"/>
          <a:stretch/>
        </p:blipFill>
        <p:spPr>
          <a:xfrm>
            <a:off x="6084720" y="5373720"/>
            <a:ext cx="1886040" cy="1285920"/>
          </a:xfrm>
          <a:prstGeom prst="rect">
            <a:avLst/>
          </a:prstGeom>
          <a:ln w="0">
            <a:noFill/>
          </a:ln>
        </p:spPr>
      </p:pic>
      <p:pic>
        <p:nvPicPr>
          <p:cNvPr id="47" name="18 Imagen" descr="image_gallery (2).jpg"/>
          <p:cNvPicPr/>
          <p:nvPr/>
        </p:nvPicPr>
        <p:blipFill>
          <a:blip r:embed="rId4"/>
          <a:stretch/>
        </p:blipFill>
        <p:spPr>
          <a:xfrm>
            <a:off x="179280" y="907920"/>
            <a:ext cx="2305080" cy="1729080"/>
          </a:xfrm>
          <a:prstGeom prst="rect">
            <a:avLst/>
          </a:prstGeom>
          <a:ln w="0">
            <a:noFill/>
          </a:ln>
        </p:spPr>
      </p:pic>
      <p:pic>
        <p:nvPicPr>
          <p:cNvPr id="48" name="19 Imagen" descr="Smilebox_3687369.jpg"/>
          <p:cNvPicPr/>
          <p:nvPr/>
        </p:nvPicPr>
        <p:blipFill>
          <a:blip r:embed="rId5"/>
          <a:srcRect l="27154" t="13253" r="29517" b="38452"/>
          <a:stretch/>
        </p:blipFill>
        <p:spPr>
          <a:xfrm>
            <a:off x="6659640" y="1268280"/>
            <a:ext cx="2305080" cy="1927440"/>
          </a:xfrm>
          <a:prstGeom prst="rect">
            <a:avLst/>
          </a:prstGeom>
          <a:ln w="0">
            <a:noFill/>
          </a:ln>
        </p:spPr>
      </p:pic>
      <p:pic>
        <p:nvPicPr>
          <p:cNvPr id="49" name="20 Imagen" descr="IMG_5705.JPG"/>
          <p:cNvPicPr/>
          <p:nvPr/>
        </p:nvPicPr>
        <p:blipFill>
          <a:blip r:embed="rId6"/>
          <a:srcRect l="11363" t="5042" r="0" b="0"/>
          <a:stretch/>
        </p:blipFill>
        <p:spPr>
          <a:xfrm>
            <a:off x="2411280" y="1413000"/>
            <a:ext cx="2868840" cy="2303280"/>
          </a:xfrm>
          <a:prstGeom prst="rect">
            <a:avLst/>
          </a:prstGeom>
          <a:ln w="0">
            <a:noFill/>
          </a:ln>
        </p:spPr>
      </p:pic>
      <p:pic>
        <p:nvPicPr>
          <p:cNvPr id="50" name="21 Imagen" descr="woda 003.jpg"/>
          <p:cNvPicPr/>
          <p:nvPr/>
        </p:nvPicPr>
        <p:blipFill>
          <a:blip r:embed="rId7"/>
          <a:srcRect l="37400" t="0" r="31892" b="22704"/>
          <a:stretch/>
        </p:blipFill>
        <p:spPr>
          <a:xfrm>
            <a:off x="5254560" y="2349360"/>
            <a:ext cx="1549440" cy="2926080"/>
          </a:xfrm>
          <a:prstGeom prst="rect">
            <a:avLst/>
          </a:prstGeom>
          <a:ln w="0">
            <a:noFill/>
          </a:ln>
        </p:spPr>
      </p:pic>
      <p:pic>
        <p:nvPicPr>
          <p:cNvPr id="51" name="13 Imagen" descr="glass.gif"/>
          <p:cNvPicPr/>
          <p:nvPr/>
        </p:nvPicPr>
        <p:blipFill>
          <a:blip r:embed="rId8"/>
          <a:stretch/>
        </p:blipFill>
        <p:spPr>
          <a:xfrm>
            <a:off x="2843280" y="4005360"/>
            <a:ext cx="194472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2 Imagen" descr="image_gallery (2).jpg"/>
          <p:cNvPicPr/>
          <p:nvPr/>
        </p:nvPicPr>
        <p:blipFill>
          <a:blip r:embed="rId1"/>
          <a:stretch/>
        </p:blipFill>
        <p:spPr>
          <a:xfrm>
            <a:off x="611280" y="1268280"/>
            <a:ext cx="4321080" cy="32403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0"/>
          <p:cNvSpPr/>
          <p:nvPr/>
        </p:nvSpPr>
        <p:spPr>
          <a:xfrm>
            <a:off x="684360" y="333360"/>
            <a:ext cx="8064360" cy="79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atura MT Script Capitals"/>
              </a:rPr>
              <a:t>We recyc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5003640" y="1125360"/>
            <a:ext cx="3745080" cy="5256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5256360"/>
              <a:gd name="textAreaBottom" fmla="*/ 5073840 h 5256360"/>
            </a:gdLst>
            <a:ahLst/>
            <a:rect l="textAreaLeft" t="textAreaTop" r="textAreaRight" b="textAreaBottom"/>
            <a:pathLst>
              <a:path w="21600" h="30316">
                <a:moveTo>
                  <a:pt x="3600" y="0"/>
                </a:moveTo>
                <a:arcTo wR="3600" hR="3600" stAng="16200000" swAng="-5400000"/>
                <a:lnTo>
                  <a:pt x="0" y="26716"/>
                </a:lnTo>
                <a:arcTo wR="3600" hR="3600" stAng="10800000" swAng="-5400000"/>
                <a:lnTo>
                  <a:pt x="18000" y="3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5364000" y="148428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g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>
            <a:off x="5364000" y="2637000"/>
            <a:ext cx="3024360" cy="936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5364000" y="3832200"/>
            <a:ext cx="3024360" cy="89388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cardbo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8"/>
          <p:cNvSpPr/>
          <p:nvPr/>
        </p:nvSpPr>
        <p:spPr>
          <a:xfrm>
            <a:off x="5364000" y="501336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pla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13 Imagen" descr="glass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19280" y="5365800"/>
            <a:ext cx="1944720" cy="1492200"/>
          </a:xfrm>
          <a:prstGeom prst="rect">
            <a:avLst/>
          </a:prstGeom>
          <a:ln w="0">
            <a:noFill/>
          </a:ln>
        </p:spPr>
      </p:pic>
      <p:pic>
        <p:nvPicPr>
          <p:cNvPr id="60" name="14 Imagen" descr="paper.gif"/>
          <p:cNvPicPr/>
          <p:nvPr/>
        </p:nvPicPr>
        <p:blipFill>
          <a:blip r:embed="rId4"/>
          <a:stretch/>
        </p:blipFill>
        <p:spPr>
          <a:xfrm>
            <a:off x="179280" y="4581360"/>
            <a:ext cx="1535400" cy="1503360"/>
          </a:xfrm>
          <a:prstGeom prst="rect">
            <a:avLst/>
          </a:prstGeom>
          <a:ln w="0">
            <a:noFill/>
          </a:ln>
        </p:spPr>
      </p:pic>
      <p:pic>
        <p:nvPicPr>
          <p:cNvPr id="61" name="15 Imagen" descr="plastic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19640" y="4653000"/>
            <a:ext cx="158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32 0.01204 C -0.21736 -0.00602 -0.24809 -0.01203 -0.27708 -0.01504 C -0.29844 -0.02153 -0.31771 -0.02199 -0.3401 -0.02291 C -0.34878 -0.02523 -0.35764 -0.02639 -0.36632 -0.0294 C -0.38333 -0.02893 -0.40052 -0.0287 -0.41753 -0.02778 C -0.42222 -0.02754 -0.42639 -0.02361 -0.43056 -0.02129 C -0.4408 -0.01597 -0.45191 -0.01227 -0.46267 -0.01018 C -0.47396 -0.00509 -0.48438 0.00324 -0.49601 0.00718 C -0.50556 0.01551 -0.51771 0.01852 -0.52708 0.02778 C -0.52847 0.02917 -0.52917 0.03148 -0.53056 0.03264 C -0.53385 0.03565 -0.53889 0.03773 -0.54253 0.04051 C -0.55052 0.04676 -0.54132 0.04051 -0.54965 0.04838 C -0.55278 0.05139 -0.55521 0.05139 -0.55799 0.05486 C -0.56181 0.05972 -0.56372 0.06574 -0.56753 0.0706 C -0.57205 0.08287 -0.57847 0.09283 -0.5842 0.10394 C -0.58819 0.11968 -0.59427 0.13426 -0.59844 0.15 C -0.59809 0.14676 -0.59722 0.14051 -0.59722 0.14074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1 Imagen" descr="image_gallery (5).jpg"/>
          <p:cNvPicPr/>
          <p:nvPr/>
        </p:nvPicPr>
        <p:blipFill>
          <a:blip r:embed="rId1"/>
          <a:srcRect l="0" t="0" r="46462" b="0"/>
          <a:stretch/>
        </p:blipFill>
        <p:spPr>
          <a:xfrm>
            <a:off x="1258920" y="1125360"/>
            <a:ext cx="2736720" cy="383256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0"/>
          <p:cNvSpPr/>
          <p:nvPr/>
        </p:nvSpPr>
        <p:spPr>
          <a:xfrm>
            <a:off x="684360" y="333360"/>
            <a:ext cx="8064360" cy="79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atura MT Script Capitals"/>
              </a:rPr>
              <a:t>We recyc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5003640" y="1125360"/>
            <a:ext cx="3745080" cy="5256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5256360"/>
              <a:gd name="textAreaBottom" fmla="*/ 5073840 h 5256360"/>
            </a:gdLst>
            <a:ahLst/>
            <a:rect l="textAreaLeft" t="textAreaTop" r="textAreaRight" b="textAreaBottom"/>
            <a:pathLst>
              <a:path w="21600" h="30316">
                <a:moveTo>
                  <a:pt x="3600" y="0"/>
                </a:moveTo>
                <a:arcTo wR="3600" hR="3600" stAng="16200000" swAng="-5400000"/>
                <a:lnTo>
                  <a:pt x="0" y="26716"/>
                </a:lnTo>
                <a:arcTo wR="3600" hR="3600" stAng="10800000" swAng="-5400000"/>
                <a:lnTo>
                  <a:pt x="18000" y="3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>
            <a:off x="5364000" y="378936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g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5364000" y="2637000"/>
            <a:ext cx="3024360" cy="936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7"/>
          <p:cNvSpPr/>
          <p:nvPr/>
        </p:nvSpPr>
        <p:spPr>
          <a:xfrm>
            <a:off x="5364000" y="1413000"/>
            <a:ext cx="3024360" cy="936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8"/>
          <p:cNvSpPr/>
          <p:nvPr/>
        </p:nvSpPr>
        <p:spPr>
          <a:xfrm>
            <a:off x="5364000" y="501336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pla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13 Imagen" descr="glass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19280" y="5365800"/>
            <a:ext cx="1944720" cy="1492200"/>
          </a:xfrm>
          <a:prstGeom prst="rect">
            <a:avLst/>
          </a:prstGeom>
          <a:ln w="0">
            <a:noFill/>
          </a:ln>
        </p:spPr>
      </p:pic>
      <p:pic>
        <p:nvPicPr>
          <p:cNvPr id="70" name="14 Imagen" descr="paper.gif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79280" y="4581360"/>
            <a:ext cx="1535400" cy="1503360"/>
          </a:xfrm>
          <a:prstGeom prst="rect">
            <a:avLst/>
          </a:prstGeom>
          <a:ln w="0">
            <a:noFill/>
          </a:ln>
        </p:spPr>
      </p:pic>
      <p:pic>
        <p:nvPicPr>
          <p:cNvPr id="71" name="15 Imagen" descr="plastic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19640" y="4653000"/>
            <a:ext cx="158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007 -0.00278 -0.00902 -0.00764 -0.01666 -0.01435 C -0.02031 -0.0213 -0.02413 -0.02454 -0.02847 -0.03033 C -0.03472 -0.03866 -0.03993 -0.04537 -0.04896 -0.04769 C -0.05902 -0.05463 -0.07361 -0.05672 -0.08472 -0.0588 C -0.10017 -0.06181 -0.11545 -0.06459 -0.13107 -0.06667 C -0.17031 -0.07847 -0.21146 -0.08334 -0.25139 -0.09213 C -0.26962 -0.09167 -0.28767 -0.09144 -0.3059 -0.09051 C -0.31076 -0.09028 -0.31562 -0.08588 -0.32014 -0.08426 C -0.32847 -0.08125 -0.33732 -0.07894 -0.34514 -0.07315 C -0.35833 -0.0632 -0.34114 -0.07269 -0.3559 -0.06528 C -0.36232 -0.05857 -0.36962 -0.05347 -0.37725 -0.04931 C -0.38732 -0.03588 -0.37517 -0.05047 -0.38455 -0.04306 C -0.3875 -0.04074 -0.3901 -0.03773 -0.39288 -0.03496 C -0.396 -0.03195 -0.40139 -0.02986 -0.40468 -0.02709 C -0.41093 -0.02199 -0.41684 -0.01574 -0.42378 -0.01273 C -0.43264 -0.00116 -0.44149 0.01065 -0.45 0.02222 C -0.45295 0.0331 -0.44896 0.01991 -0.45486 0.03171 C -0.46059 0.04352 -0.46632 0.05625 -0.47257 0.06805 C -0.4783 0.07916 -0.48229 0.0919 -0.48802 0.10301 C -0.49166 0.11018 -0.49618 0.11666 -0.5 0.12361 C -0.50659 0.13588 -0.51198 0.1493 -0.52014 0.16018 C -0.52222 0.16875 -0.52847 0.17453 -0.53212 0.18241 C -0.53472 0.18796 -0.53455 0.19259 -0.5368 0.19838 C -0.53923 0.2044 -0.54271 0.20972 -0.54514 0.21574 C -0.54843 0.22384 -0.55104 0.23356 -0.55468 0.2412 C -0.55781 0.24768 -0.56128 0.25347 -0.56423 0.26018 C -0.5658 0.26366 -0.56632 0.26782 -0.56788 0.27129 C -0.57291 0.28241 -0.57361 0.28009 -0.57725 0.29028 C -0.58229 0.30393 -0.58646 0.31898 -0.59288 0.33171 C -0.59774 0.35208 -0.60555 0.37129 -0.61302 0.39028 C -0.61649 0.41319 -0.61128 0.38449 -0.61788 0.40463 C -0.625 0.42616 -0.61354 0.40185 -0.62135 0.41736 C -0.6217 0.41944 -0.62205 0.42153 -0.62257 0.42361 C -0.62326 0.42592 -0.62448 0.42778 -0.625 0.43009 C -0.62812 0.44375 -0.62986 0.45787 -0.63333 0.47129 C -0.6342 0.4787 -0.63507 0.48634 -0.6368 0.49352 C -0.63784 0.49815 -0.64045 0.5044 -0.64045 0.50949 L -0.63802 0.49028 E">
                                      <p:cBhvr>
                                        <p:cTn id="3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0 Imagen" descr="IMG-20111212-00002.jpg"/>
          <p:cNvPicPr/>
          <p:nvPr/>
        </p:nvPicPr>
        <p:blipFill>
          <a:blip r:embed="rId1"/>
          <a:srcRect l="33463" t="6951" r="32677" b="18501"/>
          <a:stretch/>
        </p:blipFill>
        <p:spPr>
          <a:xfrm>
            <a:off x="1282680" y="1125360"/>
            <a:ext cx="2136960" cy="35276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0"/>
          <p:cNvSpPr/>
          <p:nvPr/>
        </p:nvSpPr>
        <p:spPr>
          <a:xfrm>
            <a:off x="684360" y="333360"/>
            <a:ext cx="8064360" cy="79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atura MT Script Capitals"/>
              </a:rPr>
              <a:t>We recyc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5003640" y="1125360"/>
            <a:ext cx="3745080" cy="5256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5256360"/>
              <a:gd name="textAreaBottom" fmla="*/ 5073840 h 5256360"/>
            </a:gdLst>
            <a:ahLst/>
            <a:rect l="textAreaLeft" t="textAreaTop" r="textAreaRight" b="textAreaBottom"/>
            <a:pathLst>
              <a:path w="21600" h="30316">
                <a:moveTo>
                  <a:pt x="3600" y="0"/>
                </a:moveTo>
                <a:arcTo wR="3600" hR="3600" stAng="16200000" swAng="-5400000"/>
                <a:lnTo>
                  <a:pt x="0" y="26716"/>
                </a:lnTo>
                <a:arcTo wR="3600" hR="3600" stAng="10800000" swAng="-5400000"/>
                <a:lnTo>
                  <a:pt x="18000" y="3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5364000" y="148428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g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6"/>
          <p:cNvSpPr/>
          <p:nvPr/>
        </p:nvSpPr>
        <p:spPr>
          <a:xfrm>
            <a:off x="5364000" y="2637000"/>
            <a:ext cx="3024360" cy="936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7"/>
          <p:cNvSpPr/>
          <p:nvPr/>
        </p:nvSpPr>
        <p:spPr>
          <a:xfrm>
            <a:off x="5435640" y="5229360"/>
            <a:ext cx="3024000" cy="936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pla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8"/>
          <p:cNvSpPr/>
          <p:nvPr/>
        </p:nvSpPr>
        <p:spPr>
          <a:xfrm>
            <a:off x="5292720" y="393372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11 Imagen" descr="glass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19280" y="5365800"/>
            <a:ext cx="1944720" cy="1492200"/>
          </a:xfrm>
          <a:prstGeom prst="rect">
            <a:avLst/>
          </a:prstGeom>
          <a:ln w="0">
            <a:noFill/>
          </a:ln>
        </p:spPr>
      </p:pic>
      <p:pic>
        <p:nvPicPr>
          <p:cNvPr id="80" name="13 Imagen" descr="paper.gif"/>
          <p:cNvPicPr/>
          <p:nvPr/>
        </p:nvPicPr>
        <p:blipFill>
          <a:blip r:embed="rId4"/>
          <a:stretch/>
        </p:blipFill>
        <p:spPr>
          <a:xfrm>
            <a:off x="179280" y="4581360"/>
            <a:ext cx="1535400" cy="1503360"/>
          </a:xfrm>
          <a:prstGeom prst="rect">
            <a:avLst/>
          </a:prstGeom>
          <a:ln w="0">
            <a:noFill/>
          </a:ln>
        </p:spPr>
      </p:pic>
      <p:pic>
        <p:nvPicPr>
          <p:cNvPr id="81" name="14 Imagen" descr="plastic.gif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419640" y="4653000"/>
            <a:ext cx="158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56 -0.0162 -0.00382 -0.01991 -0.00833 -0.03333 C -0.01389 -0.04954 -0.00781 -0.03727 -0.0132 -0.04745 C -0.01476 -0.05486 -0.01563 -0.05879 -0.0191 -0.06504 C -0.02274 -0.07893 -0.03004 -0.09213 -0.03577 -0.10463 C -0.04028 -0.11458 -0.04392 -0.12639 -0.04879 -0.13634 C -0.04965 -0.13819 -0.05139 -0.13935 -0.05243 -0.1412 C -0.06059 -0.15694 -0.06806 -0.17292 -0.07743 -0.18727 C -0.08767 -0.20301 -0.07465 -0.18426 -0.08333 -0.2 C -0.08802 -0.20856 -0.09306 -0.2162 -0.09879 -0.22384 C -0.10174 -0.22778 -0.10538 -0.23102 -0.10833 -0.23495 C -0.11372 -0.24213 -0.11007 -0.24097 -0.11667 -0.24745 C -0.1224 -0.25324 -0.12847 -0.25717 -0.13455 -0.2618 C -0.14219 -0.26782 -0.13351 -0.26296 -0.14531 -0.26829 C -0.14931 -0.27014 -0.15712 -0.27454 -0.15712 -0.27454 C -0.18559 -0.27361 -0.21597 -0.2743 -0.2441 -0.26504 C -0.24913 -0.26157 -0.25278 -0.26018 -0.25833 -0.25856 C -0.26059 -0.25671 -0.26337 -0.25625 -0.26545 -0.25393 C -0.26649 -0.25278 -0.26684 -0.25046 -0.26788 -0.24907 C -0.27031 -0.24583 -0.27361 -0.24398 -0.27622 -0.2412 C -0.27847 -0.23542 -0.28073 -0.22917 -0.28333 -0.22384 C -0.28524 -0.21991 -0.28924 -0.21273 -0.28924 -0.21273 C -0.29149 -0.2037 -0.29583 -0.19514 -0.3 -0.18727 C -0.30347 -0.17361 -0.30608 -0.15949 -0.30955 -0.14606 C -0.31059 -0.13542 -0.31198 -0.12454 -0.31424 -0.11412 C -0.31389 -0.0787 -0.31389 -0.04329 -0.3132 -0.00787 C -0.3132 -0.00555 -0.31198 0.00324 -0.30955 0.00324 L -0.31424 -0.01273 E">
                                      <p:cBhvr>
                                        <p:cTn id="5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5 Imagen" descr="Smilebox_3687369.jpg"/>
          <p:cNvPicPr/>
          <p:nvPr/>
        </p:nvPicPr>
        <p:blipFill>
          <a:blip r:embed="rId1"/>
          <a:srcRect l="27154" t="13253" r="29517" b="38452"/>
          <a:stretch/>
        </p:blipFill>
        <p:spPr>
          <a:xfrm>
            <a:off x="611280" y="1268280"/>
            <a:ext cx="3960720" cy="331308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0"/>
          <p:cNvSpPr/>
          <p:nvPr/>
        </p:nvSpPr>
        <p:spPr>
          <a:xfrm>
            <a:off x="684360" y="333360"/>
            <a:ext cx="8064360" cy="79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atura MT Script Capitals"/>
              </a:rPr>
              <a:t>We recyc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5003640" y="1125360"/>
            <a:ext cx="3745080" cy="5256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5256360"/>
              <a:gd name="textAreaBottom" fmla="*/ 5073840 h 5256360"/>
            </a:gdLst>
            <a:ahLst/>
            <a:rect l="textAreaLeft" t="textAreaTop" r="textAreaRight" b="textAreaBottom"/>
            <a:pathLst>
              <a:path w="21600" h="30316">
                <a:moveTo>
                  <a:pt x="3600" y="0"/>
                </a:moveTo>
                <a:arcTo wR="3600" hR="3600" stAng="16200000" swAng="-5400000"/>
                <a:lnTo>
                  <a:pt x="0" y="26716"/>
                </a:lnTo>
                <a:arcTo wR="3600" hR="3600" stAng="10800000" swAng="-5400000"/>
                <a:lnTo>
                  <a:pt x="18000" y="3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2"/>
          <p:cNvSpPr/>
          <p:nvPr/>
        </p:nvSpPr>
        <p:spPr>
          <a:xfrm>
            <a:off x="5364000" y="148428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w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6"/>
          <p:cNvSpPr/>
          <p:nvPr/>
        </p:nvSpPr>
        <p:spPr>
          <a:xfrm>
            <a:off x="5364000" y="2637000"/>
            <a:ext cx="3024360" cy="936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7"/>
          <p:cNvSpPr/>
          <p:nvPr/>
        </p:nvSpPr>
        <p:spPr>
          <a:xfrm>
            <a:off x="5364000" y="378936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8"/>
          <p:cNvSpPr/>
          <p:nvPr/>
        </p:nvSpPr>
        <p:spPr>
          <a:xfrm>
            <a:off x="5364000" y="501336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g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11 Imagen" descr="glass.gif"/>
          <p:cNvPicPr/>
          <p:nvPr/>
        </p:nvPicPr>
        <p:blipFill>
          <a:blip r:embed="rId2"/>
          <a:stretch/>
        </p:blipFill>
        <p:spPr>
          <a:xfrm>
            <a:off x="1619280" y="5365800"/>
            <a:ext cx="1944720" cy="1492200"/>
          </a:xfrm>
          <a:prstGeom prst="rect">
            <a:avLst/>
          </a:prstGeom>
          <a:ln w="0">
            <a:noFill/>
          </a:ln>
        </p:spPr>
      </p:pic>
      <p:pic>
        <p:nvPicPr>
          <p:cNvPr id="90" name="13 Imagen" descr="paper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179280" y="4732200"/>
            <a:ext cx="1535400" cy="1505160"/>
          </a:xfrm>
          <a:prstGeom prst="rect">
            <a:avLst/>
          </a:prstGeom>
          <a:ln w="0">
            <a:noFill/>
          </a:ln>
        </p:spPr>
      </p:pic>
      <p:pic>
        <p:nvPicPr>
          <p:cNvPr id="91" name="14 Imagen" descr="plastic.gif"/>
          <p:cNvPicPr/>
          <p:nvPr/>
        </p:nvPicPr>
        <p:blipFill>
          <a:blip r:embed="rId4"/>
          <a:stretch/>
        </p:blipFill>
        <p:spPr>
          <a:xfrm>
            <a:off x="3419640" y="4653000"/>
            <a:ext cx="158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43 -0.01574 -0.00452 -0.00926 -0.00712 -0.01898 C -0.00851 -0.03518 -0.01146 -0.05416 -0.01789 -0.06828 C -0.0198 -0.08032 -0.02466 -0.09305 -0.02987 -0.10324 C -0.03178 -0.11157 -0.02952 -0.10463 -0.03455 -0.11273 C -0.04219 -0.12523 -0.04809 -0.14328 -0.05834 -0.15231 C -0.06285 -0.16018 -0.06771 -0.17199 -0.07379 -0.17778 C -0.08941 -0.19236 -0.10625 -0.20625 -0.12379 -0.21597 C -0.13455 -0.22963 -0.14775 -0.23333 -0.16198 -0.23495 C -0.19271 -0.24328 -0.24254 -0.23703 -0.26789 -0.23657 C -0.26945 -0.23541 -0.27084 -0.23403 -0.27257 -0.23333 C -0.2757 -0.23194 -0.28212 -0.23009 -0.28212 -0.23009 C -0.28646 -0.22662 -0.28907 -0.22384 -0.2941 -0.22222 C -0.29948 -0.21713 -0.30608 -0.21666 -0.31198 -0.21273 C -0.31789 -0.20879 -0.32223 -0.20532 -0.32865 -0.20324 C -0.33612 -0.19815 -0.34341 -0.19305 -0.35122 -0.18889 C -0.35348 -0.18773 -0.35625 -0.1875 -0.35834 -0.18565 C -0.36945 -0.17639 -0.3816 -0.16898 -0.39289 -0.16041 C -0.4125 -0.14537 -0.43299 -0.1243 -0.45487 -0.11597 C -0.45764 -0.11319 -0.46025 -0.11018 -0.4632 -0.10787 C -0.46546 -0.10602 -0.46806 -0.10509 -0.47032 -0.10324 C -0.47171 -0.10208 -0.4724 -0.09977 -0.47379 -0.09838 C -0.4816 -0.09074 -0.48994 -0.08403 -0.49757 -0.07616 C -0.50487 -0.06875 -0.51355 -0.06458 -0.52153 -0.05879 C -0.53178 -0.05139 -0.54098 -0.04051 -0.55244 -0.03657 C -0.56216 -0.02708 -0.55764 -0.03055 -0.56546 -0.02546 C -0.57014 -0.01921 -0.57535 -0.01458 -0.57987 -0.00787 C -0.58733 0.00324 -0.58143 -0.00278 -0.5882 0.00324 C -0.59375 0.01459 -0.6 0.02547 -0.60591 0.03658 C -0.61702 0.05718 -0.59862 0.03195 -0.6132 0.0507 C -0.61476 0.05834 -0.6191 0.06644 -0.62257 0.07292 C -0.62483 0.07732 -0.62987 0.08565 -0.62987 0.08565 C -0.6316 0.09676 -0.63594 0.10787 -0.64046 0.11736 C -0.64202 0.12547 -0.64375 0.1331 -0.64532 0.14121 C -0.64566 0.14769 -0.64601 0.15394 -0.64653 0.16042 C -0.64671 0.1625 -0.64757 0.16667 -0.64757 0.16667 L -0.6441 0.1507 E">
                                      <p:cBhvr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10 Imagen" descr="woda 010.jpg"/>
          <p:cNvPicPr/>
          <p:nvPr/>
        </p:nvPicPr>
        <p:blipFill>
          <a:blip r:embed="rId1"/>
          <a:srcRect l="28741" t="3801" r="16925" b="10102"/>
          <a:stretch/>
        </p:blipFill>
        <p:spPr>
          <a:xfrm>
            <a:off x="900000" y="1197000"/>
            <a:ext cx="3149640" cy="37447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0"/>
          <p:cNvSpPr/>
          <p:nvPr/>
        </p:nvSpPr>
        <p:spPr>
          <a:xfrm>
            <a:off x="684360" y="333360"/>
            <a:ext cx="8064360" cy="79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atura MT Script Capitals"/>
              </a:rPr>
              <a:t>We recyc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5003640" y="1125360"/>
            <a:ext cx="3745080" cy="5256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5256360"/>
              <a:gd name="textAreaBottom" fmla="*/ 5073840 h 5256360"/>
            </a:gdLst>
            <a:ahLst/>
            <a:rect l="textAreaLeft" t="textAreaTop" r="textAreaRight" b="textAreaBottom"/>
            <a:pathLst>
              <a:path w="21600" h="30316">
                <a:moveTo>
                  <a:pt x="3600" y="0"/>
                </a:moveTo>
                <a:arcTo wR="3600" hR="3600" stAng="16200000" swAng="-5400000"/>
                <a:lnTo>
                  <a:pt x="0" y="26716"/>
                </a:lnTo>
                <a:arcTo wR="3600" hR="3600" stAng="10800000" swAng="-5400000"/>
                <a:lnTo>
                  <a:pt x="18000" y="3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5364000" y="148428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fab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5364000" y="2637000"/>
            <a:ext cx="3024360" cy="936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5364000" y="378936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g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5364000" y="501336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11 Imagen" descr="glass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619280" y="5365800"/>
            <a:ext cx="1944720" cy="1492200"/>
          </a:xfrm>
          <a:prstGeom prst="rect">
            <a:avLst/>
          </a:prstGeom>
          <a:ln w="0">
            <a:noFill/>
          </a:ln>
        </p:spPr>
      </p:pic>
      <p:pic>
        <p:nvPicPr>
          <p:cNvPr id="100" name="13 Imagen" descr="paper.gif"/>
          <p:cNvPicPr/>
          <p:nvPr/>
        </p:nvPicPr>
        <p:blipFill>
          <a:blip r:embed="rId3"/>
          <a:stretch/>
        </p:blipFill>
        <p:spPr>
          <a:xfrm>
            <a:off x="179280" y="4732200"/>
            <a:ext cx="1535400" cy="1505160"/>
          </a:xfrm>
          <a:prstGeom prst="rect">
            <a:avLst/>
          </a:prstGeom>
          <a:ln w="0">
            <a:noFill/>
          </a:ln>
        </p:spPr>
      </p:pic>
      <p:pic>
        <p:nvPicPr>
          <p:cNvPr id="101" name="14 Imagen" descr="plastic.gif"/>
          <p:cNvPicPr/>
          <p:nvPr/>
        </p:nvPicPr>
        <p:blipFill>
          <a:blip r:embed="rId4"/>
          <a:stretch/>
        </p:blipFill>
        <p:spPr>
          <a:xfrm>
            <a:off x="3419640" y="4653000"/>
            <a:ext cx="158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74 -0.00694 -0.00469 -0.01273 -0.00712 -0.01921 C -0.00972 -0.02615 -0.00677 -0.02199 -0.00955 -0.03032 C -0.01076 -0.03379 -0.01267 -0.03657 -0.01424 -0.03981 C -0.01719 -0.05509 -0.02326 -0.07176 -0.02865 -0.08588 C -0.03299 -0.09722 -0.03646 -0.10995 -0.04167 -0.1206 C -0.04687 -0.13148 -0.05312 -0.14143 -0.05955 -0.15092 C -0.0684 -0.16435 -0.07587 -0.18009 -0.08576 -0.19213 C -0.09913 -0.20856 -0.09253 -0.19815 -0.1059 -0.21111 C -0.11545 -0.22037 -0.12552 -0.2287 -0.13698 -0.23333 C -0.14306 -0.23912 -0.13906 -0.23611 -0.15 -0.23981 C -0.15347 -0.24097 -0.16076 -0.24282 -0.16076 -0.24282 C -0.17135 -0.25 -0.18247 -0.25254 -0.1941 -0.25393 C -0.20816 -0.25787 -0.22274 -0.26088 -0.23698 -0.26365 C -0.27986 -0.26319 -0.32257 -0.26296 -0.36545 -0.26203 C -0.38056 -0.26157 -0.40122 -0.2419 -0.41667 -0.23657 C -0.4224 -0.23148 -0.42795 -0.22523 -0.43455 -0.22222 C -0.43924 -0.21597 -0.4434 -0.20995 -0.44878 -0.20486 C -0.45538 -0.18727 -0.46493 -0.17315 -0.4691 -0.15393 C -0.47274 -0.13703 -0.47674 -0.12014 -0.47969 -0.10324 C -0.48142 -0.09305 -0.48212 -0.0824 -0.48576 -0.07315 C -0.48663 -0.06157 -0.4875 -0.05115 -0.48924 -0.03981 C -0.48958 -0.03333 -0.48976 -0.02708 -0.49045 -0.0206 C -0.49097 -0.01527 -0.49288 -0.00486 -0.49288 -0.00486 C -0.49253 0.04329 -0.49271 0.09144 -0.49167 0.13959 C -0.49132 0.15116 -0.48681 0.16621 -0.48576 0.17778 C -0.48507 0.20903 -0.48837 0.23635 -0.475 0.26181 C -0.47309 0.26968 -0.47083 0.27639 -0.46545 0.28079 C -0.46458 0.28241 -0.46406 0.28426 -0.46302 0.28565 C -0.46198 0.28704 -0.45955 0.28889 -0.45955 0.28889 E">
                                      <p:cBhvr>
                                        <p:cTn id="10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10"/>
          <p:cNvSpPr/>
          <p:nvPr/>
        </p:nvSpPr>
        <p:spPr>
          <a:xfrm>
            <a:off x="684360" y="333360"/>
            <a:ext cx="8064360" cy="79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atura MT Script Capitals"/>
              </a:rPr>
              <a:t>We recyc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1"/>
          <p:cNvSpPr/>
          <p:nvPr/>
        </p:nvSpPr>
        <p:spPr>
          <a:xfrm>
            <a:off x="5003640" y="1125360"/>
            <a:ext cx="3745080" cy="5256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5256360"/>
              <a:gd name="textAreaBottom" fmla="*/ 5073840 h 5256360"/>
            </a:gdLst>
            <a:ahLst/>
            <a:rect l="textAreaLeft" t="textAreaTop" r="textAreaRight" b="textAreaBottom"/>
            <a:pathLst>
              <a:path w="21600" h="30316">
                <a:moveTo>
                  <a:pt x="3600" y="0"/>
                </a:moveTo>
                <a:arcTo wR="3600" hR="3600" stAng="16200000" swAng="-5400000"/>
                <a:lnTo>
                  <a:pt x="0" y="26716"/>
                </a:lnTo>
                <a:arcTo wR="3600" hR="3600" stAng="10800000" swAng="-5400000"/>
                <a:lnTo>
                  <a:pt x="18000" y="3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5364000" y="148428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/>
          <p:cNvSpPr/>
          <p:nvPr/>
        </p:nvSpPr>
        <p:spPr>
          <a:xfrm>
            <a:off x="5364000" y="2637000"/>
            <a:ext cx="3024360" cy="936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fab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5364000" y="378936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w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8"/>
          <p:cNvSpPr/>
          <p:nvPr/>
        </p:nvSpPr>
        <p:spPr>
          <a:xfrm>
            <a:off x="5364000" y="501336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pla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11 Imagen" descr="IMG_5705.JPG"/>
          <p:cNvPicPr/>
          <p:nvPr/>
        </p:nvPicPr>
        <p:blipFill>
          <a:blip r:embed="rId1"/>
          <a:srcRect l="11361" t="5047" r="0" b="0"/>
          <a:stretch/>
        </p:blipFill>
        <p:spPr>
          <a:xfrm>
            <a:off x="179280" y="1628640"/>
            <a:ext cx="49291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10"/>
          <p:cNvSpPr/>
          <p:nvPr/>
        </p:nvSpPr>
        <p:spPr>
          <a:xfrm>
            <a:off x="684360" y="333360"/>
            <a:ext cx="8064360" cy="79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atura MT Script Capitals"/>
              </a:rPr>
              <a:t>We recyc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5003640" y="1125360"/>
            <a:ext cx="3745080" cy="5256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5256360"/>
              <a:gd name="textAreaBottom" fmla="*/ 5073840 h 5256360"/>
            </a:gdLst>
            <a:ahLst/>
            <a:rect l="textAreaLeft" t="textAreaTop" r="textAreaRight" b="textAreaBottom"/>
            <a:pathLst>
              <a:path w="21600" h="30316">
                <a:moveTo>
                  <a:pt x="3600" y="0"/>
                </a:moveTo>
                <a:arcTo wR="3600" hR="3600" stAng="16200000" swAng="-5400000"/>
                <a:lnTo>
                  <a:pt x="0" y="26716"/>
                </a:lnTo>
                <a:arcTo wR="3600" hR="3600" stAng="10800000" swAng="-5400000"/>
                <a:lnTo>
                  <a:pt x="18000" y="3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5364000" y="148428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g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6"/>
          <p:cNvSpPr/>
          <p:nvPr/>
        </p:nvSpPr>
        <p:spPr>
          <a:xfrm>
            <a:off x="5364000" y="386064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7"/>
          <p:cNvSpPr/>
          <p:nvPr/>
        </p:nvSpPr>
        <p:spPr>
          <a:xfrm>
            <a:off x="5364000" y="2637000"/>
            <a:ext cx="3024360" cy="936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w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8"/>
          <p:cNvSpPr/>
          <p:nvPr/>
        </p:nvSpPr>
        <p:spPr>
          <a:xfrm>
            <a:off x="5364000" y="501336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pla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11 Imagen" descr="029.JPG"/>
          <p:cNvPicPr/>
          <p:nvPr/>
        </p:nvPicPr>
        <p:blipFill>
          <a:blip r:embed="rId1"/>
          <a:srcRect l="21601" t="19548" r="14562" b="10949"/>
          <a:stretch/>
        </p:blipFill>
        <p:spPr>
          <a:xfrm rot="20419200">
            <a:off x="474840" y="1685880"/>
            <a:ext cx="43783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1"/>
          <p:cNvSpPr/>
          <p:nvPr/>
        </p:nvSpPr>
        <p:spPr>
          <a:xfrm>
            <a:off x="5076720" y="404640"/>
            <a:ext cx="3745080" cy="5256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5256360"/>
              <a:gd name="textAreaBottom" fmla="*/ 5073840 h 5256360"/>
            </a:gdLst>
            <a:ahLst/>
            <a:rect l="textAreaLeft" t="textAreaTop" r="textAreaRight" b="textAreaBottom"/>
            <a:pathLst>
              <a:path w="21600" h="30316">
                <a:moveTo>
                  <a:pt x="3600" y="0"/>
                </a:moveTo>
                <a:arcTo wR="3600" hR="3600" stAng="16200000" swAng="-5400000"/>
                <a:lnTo>
                  <a:pt x="0" y="26716"/>
                </a:lnTo>
                <a:arcTo wR="3600" hR="3600" stAng="10800000" swAng="-5400000"/>
                <a:lnTo>
                  <a:pt x="18000" y="3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179280" y="5157720"/>
            <a:ext cx="8064720" cy="1584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atura MT Script Capitals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18 Imagen" descr="image_gallery (2).jpg"/>
          <p:cNvPicPr/>
          <p:nvPr/>
        </p:nvPicPr>
        <p:blipFill>
          <a:blip r:embed="rId1"/>
          <a:stretch/>
        </p:blipFill>
        <p:spPr>
          <a:xfrm>
            <a:off x="6012000" y="18900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19" name="19 Imagen" descr="Smilebox_3687369.jpg"/>
          <p:cNvPicPr/>
          <p:nvPr/>
        </p:nvPicPr>
        <p:blipFill>
          <a:blip r:embed="rId2"/>
          <a:srcRect l="27154" t="13253" r="29517" b="38452"/>
          <a:stretch/>
        </p:blipFill>
        <p:spPr>
          <a:xfrm>
            <a:off x="5292720" y="2708280"/>
            <a:ext cx="2303640" cy="1927080"/>
          </a:xfrm>
          <a:prstGeom prst="rect">
            <a:avLst/>
          </a:prstGeom>
          <a:ln w="0">
            <a:noFill/>
          </a:ln>
        </p:spPr>
      </p:pic>
      <p:pic>
        <p:nvPicPr>
          <p:cNvPr id="120" name="20 Imagen" descr="IMG_5705.JPG"/>
          <p:cNvPicPr/>
          <p:nvPr/>
        </p:nvPicPr>
        <p:blipFill>
          <a:blip r:embed="rId3"/>
          <a:srcRect l="11363" t="5042" r="0" b="0"/>
          <a:stretch/>
        </p:blipFill>
        <p:spPr>
          <a:xfrm>
            <a:off x="250920" y="404640"/>
            <a:ext cx="2868480" cy="2303640"/>
          </a:xfrm>
          <a:prstGeom prst="rect">
            <a:avLst/>
          </a:prstGeom>
          <a:ln w="0">
            <a:noFill/>
          </a:ln>
        </p:spPr>
      </p:pic>
      <p:pic>
        <p:nvPicPr>
          <p:cNvPr id="121" name="21 Imagen" descr="woda 003.jpg"/>
          <p:cNvPicPr/>
          <p:nvPr/>
        </p:nvPicPr>
        <p:blipFill>
          <a:blip r:embed="rId4"/>
          <a:srcRect l="37404" t="0" r="31893" b="22704"/>
          <a:stretch/>
        </p:blipFill>
        <p:spPr>
          <a:xfrm>
            <a:off x="3635280" y="981000"/>
            <a:ext cx="1551240" cy="2925720"/>
          </a:xfrm>
          <a:prstGeom prst="rect">
            <a:avLst/>
          </a:prstGeom>
          <a:ln w="0">
            <a:noFill/>
          </a:ln>
        </p:spPr>
      </p:pic>
      <p:pic>
        <p:nvPicPr>
          <p:cNvPr id="122" name="13 Imagen" descr="glass.gif"/>
          <p:cNvPicPr/>
          <p:nvPr/>
        </p:nvPicPr>
        <p:blipFill>
          <a:blip r:embed="rId5"/>
          <a:stretch/>
        </p:blipFill>
        <p:spPr>
          <a:xfrm>
            <a:off x="0" y="3716280"/>
            <a:ext cx="1944720" cy="1494000"/>
          </a:xfrm>
          <a:prstGeom prst="rect">
            <a:avLst/>
          </a:prstGeom>
          <a:ln w="0">
            <a:noFill/>
          </a:ln>
        </p:spPr>
      </p:pic>
      <p:pic>
        <p:nvPicPr>
          <p:cNvPr id="123" name="14 Imagen" descr="paper.gif"/>
          <p:cNvPicPr/>
          <p:nvPr/>
        </p:nvPicPr>
        <p:blipFill>
          <a:blip r:embed="rId6"/>
          <a:stretch/>
        </p:blipFill>
        <p:spPr>
          <a:xfrm>
            <a:off x="2411280" y="3716280"/>
            <a:ext cx="1535400" cy="1505160"/>
          </a:xfrm>
          <a:prstGeom prst="rect">
            <a:avLst/>
          </a:prstGeom>
          <a:ln w="0">
            <a:noFill/>
          </a:ln>
        </p:spPr>
      </p:pic>
      <p:pic>
        <p:nvPicPr>
          <p:cNvPr id="124" name="15 Imagen" descr="plastic.gif"/>
          <p:cNvPicPr/>
          <p:nvPr/>
        </p:nvPicPr>
        <p:blipFill>
          <a:blip r:embed="rId7"/>
          <a:stretch/>
        </p:blipFill>
        <p:spPr>
          <a:xfrm>
            <a:off x="7093080" y="3716280"/>
            <a:ext cx="1582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1:11:54Z</dcterms:created>
  <dc:creator>"Mar Bermejo"</dc:creator>
  <dc:description/>
  <dc:language>en-US</dc:language>
  <cp:lastModifiedBy>.</cp:lastModifiedBy>
  <dcterms:modified xsi:type="dcterms:W3CDTF">2012-06-06T17:33:53Z</dcterms:modified>
  <cp:revision>46</cp:revision>
  <dc:subject/>
  <dc:title>Slide 1</dc:title>
</cp:coreProperties>
</file>